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216110"/>
        <c:axId val="60513008"/>
      </c:barChart>
      <c:catAx>
        <c:axId val="262161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513008"/>
        <c:crosses val="autoZero"/>
        <c:auto val="1"/>
        <c:lblAlgn val="ctr"/>
        <c:lblOffset val="100"/>
        <c:noMultiLvlLbl val="0"/>
      </c:catAx>
      <c:valAx>
        <c:axId val="605130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2161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2821-2F86-4C6E-96A8-0E3056106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F61D-CE59-405D-86F4-8C46579A9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4A7C-A827-4ED3-B02D-DCD921EA6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DE65-50AF-4E4C-BB03-499930B54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A636-FC35-46DD-9004-C44511E4B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C3A2-7C11-4FAB-BCC8-C162DD8A5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F830-AE8A-4661-86F4-C9787BD0F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9C62-AB71-415E-9BFF-A718843F3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4F9D-2863-437D-9C84-63143E360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F6F1-6490-4DDE-BDAC-8A1001FD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B19D-2C43-49BC-A533-3BFEB4B2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1A8C-70CA-4741-8435-BE59C888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BB6272-C11C-4F3C-9548-4EC856FD33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