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64112"/>
        <c:axId val="23494299"/>
      </c:barChart>
      <c:catAx>
        <c:axId val="65264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94299"/>
        <c:crosses val="autoZero"/>
        <c:auto val="1"/>
        <c:lblAlgn val="ctr"/>
        <c:lblOffset val="100"/>
        <c:noMultiLvlLbl val="0"/>
      </c:catAx>
      <c:valAx>
        <c:axId val="23494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64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93A-C9C6-4349-AA34-7D625F74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EB8-9E51-48D0-86BE-DA800D40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868-9DE5-4A0D-92DC-5F29D6C0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5FF-88BE-4E20-9EA6-7DA6F1E3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852-1FAF-4F42-B186-F2677967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DCB-D703-4B96-9B5D-8CE6AA3C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80C-C9AC-4FE5-B28C-D1D1B190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810-522E-4C92-864F-5FC6ED4F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5A1-AB87-406B-A3F7-F4CA457D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EFC-5DC3-4882-AD35-95A01BF9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A25-5B5F-426F-A609-B8C46A1A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D84-5EC0-455A-B716-445DF6BA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060F7-03AC-4FB8-986E-F67B2155A0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