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69595"/>
        <c:axId val="21489139"/>
      </c:barChart>
      <c:catAx>
        <c:axId val="5576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9139"/>
        <c:crosses val="autoZero"/>
        <c:auto val="1"/>
        <c:lblAlgn val="ctr"/>
        <c:lblOffset val="100"/>
        <c:noMultiLvlLbl val="0"/>
      </c:catAx>
      <c:valAx>
        <c:axId val="21489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6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F79-A1E6-4C0E-A914-64828F3B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978-66DE-4A71-8F4B-641ADE3D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54F-4254-428A-B7A2-1F069B07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D5C-9D51-4401-A57F-8F03D59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236-D415-4C73-A8A8-B3C2CEA7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F2B-5E94-4FD6-B719-C68D9A90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A4E-FC2F-4727-B235-C1D4D845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104-C467-432C-ABBE-F97448B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C32-85C3-4956-86C4-D52F620E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DF3-D761-4D42-A498-6947C84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7FE-B0F1-4B3F-AF4F-97176760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57F-A1A6-44ED-A59D-92FFA76F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89BE8-137C-4F11-AFB3-6E1E2F9E1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