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1719110"/>
        <c:axId val="27840204"/>
      </c:barChart>
      <c:catAx>
        <c:axId val="5171911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840204"/>
        <c:crosses val="autoZero"/>
        <c:auto val="1"/>
        <c:lblAlgn val="ctr"/>
        <c:lblOffset val="100"/>
        <c:noMultiLvlLbl val="0"/>
      </c:catAx>
      <c:valAx>
        <c:axId val="2784020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71911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564E-BB74-49B7-A315-77D6F633B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29FF-D637-4E65-A60D-EF136F5F0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A823-7C77-4E5C-A5A7-9E0B59E69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CAB1-49C5-423D-843D-FBD84DDB5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EA9E-08E8-4FB5-BD7F-4646B6B24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D686-6B6A-4932-979B-3C9E0F3A3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3F0D-22C7-407A-90BE-CA66C7C53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31EA-845F-441A-A903-15F235BE5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CE39-581E-4D61-815E-2EA91088C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77DB-5B00-46BA-A4AA-C9408B5B3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E07E-279B-46E6-8BDB-36FF4AEFA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DE2B-9C85-4ACD-9036-545B1AC31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AC4601-540C-4B14-8B7B-FB7F7BC6D47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