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047489"/>
        <c:axId val="12612973"/>
      </c:barChart>
      <c:catAx>
        <c:axId val="980474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612973"/>
        <c:crosses val="autoZero"/>
        <c:auto val="1"/>
        <c:lblAlgn val="ctr"/>
        <c:lblOffset val="100"/>
        <c:noMultiLvlLbl val="0"/>
      </c:catAx>
      <c:valAx>
        <c:axId val="126129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0474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928B-9460-4FBB-8C02-996DBDB5B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7549-9FFA-475E-A779-06B172D2B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FDFE3-AE84-475A-8668-C06C23540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980B-3F5B-4C8F-A18E-7B18E9B5B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85C4-476D-4FEB-9B96-2C1BF9958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45A6-4581-4042-B9E5-156CCD678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1057-28B3-428D-8199-9E35A9046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E070-8779-424B-B327-D939BCB87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4C747-490A-4A70-A1F8-A703987ABA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0E978-ED27-40A4-8661-40BE55A57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C8FA-DE5A-4976-9C2A-F42B3A9B9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A0EC-30BD-4BC7-B5DF-ED20582C1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CD841F-466F-4CE1-9806-167078379B7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